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B92-520A-4CA4-9F42-5F43DDB0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B1E-1134-4557-B3CA-4A3F168E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2BB8-C59D-47FD-AF06-DAB9ADC0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A81-46C8-48C9-BDBB-3EA60400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D0A-40A3-4DEB-8C7F-8C11EF80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51A-AA4C-42DC-B281-8021902B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7C8-1A65-409E-A091-1FA3D01D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84F-4BC7-47F6-BCD9-383393C8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14B9-6FB6-4825-94B8-B5252F6B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4C8-0D5E-4E82-A462-B687CF0E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B7C-C5AA-4E5A-8FCE-6B1E109B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40A3-2FF0-4DD9-8945-F8C0C708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2007-DD8B-4A0B-BAF5-D64714FAB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upload.wikimedia.org/wikipedia/commons/b/b6/Hermit_crab_corcovado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upload.wikimedia.org/wikipedia/commons/d/da/Grapsus_grapsus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Pelican_lakes_entrance02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upload.wikimedia.org/wikipedia/en/6/65/Asco-nado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4495680" cy="314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8320" y="76320"/>
            <a:ext cx="4495680" cy="3301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243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800600" y="360036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320" y="128520"/>
            <a:ext cx="4419360" cy="3148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449568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3376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4038480" cy="327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4505400" cy="3352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File:Chelonia mydas is going for the air.jpg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495680" cy="312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97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File:Hermit crab corcovad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3549600"/>
            <a:ext cx="4343400" cy="3232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File:Grapsus grapsu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3463920"/>
            <a:ext cx="4572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File:Pelican lakes entrance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304920"/>
            <a:ext cx="4419360" cy="2946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File:Asco-nad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320" y="3505320"/>
            <a:ext cx="4419360" cy="312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File:Black-headed Gull - St James's Park, London - Nov 2006.jpg"/>
          <p:cNvPicPr/>
          <p:nvPr/>
        </p:nvPicPr>
        <p:blipFill>
          <a:blip r:embed="rId5"/>
          <a:stretch/>
        </p:blipFill>
        <p:spPr>
          <a:xfrm>
            <a:off x="4724280" y="119160"/>
            <a:ext cx="4267440" cy="3157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File:Clownfish sprain water3.jpg"/>
          <p:cNvPicPr/>
          <p:nvPr/>
        </p:nvPicPr>
        <p:blipFill>
          <a:blip r:embed="rId6"/>
          <a:stretch/>
        </p:blipFill>
        <p:spPr>
          <a:xfrm>
            <a:off x="4724280" y="350532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22790</cp:lastModifiedBy>
  <dcterms:modified xsi:type="dcterms:W3CDTF">2008-12-19T21:09:55Z</dcterms:modified>
  <cp:revision>11</cp:revision>
  <dc:subject/>
  <dc:title>Slide 1</dc:title>
</cp:coreProperties>
</file>